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648F9-5AD2-439D-9449-D51B81C00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CF585-5E9C-4143-BCE8-09CEF964E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19FD9-4EB9-4A20-AF1D-3F5091F64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1AD65-71BA-4934-A01F-481673D89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B9788-6A7B-40C5-9237-7FE750024C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68F18-5175-4C12-82A7-7E35F23C6C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C932E-7F48-42EB-9903-5B9ED3B7B2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6A128-6C9D-4170-9AD3-7207A43F96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42DA3-3CFB-4EFE-8E21-C62593B143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CC832-1C2E-4B8B-82B0-30B4BFD4F8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8008F-535C-471B-9645-B30F6351D3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E8FD1-B1AC-4098-BED3-CAB64B4755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C7FB3-1197-4605-9504-F181828C8A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4F992-D1A0-45EC-9132-6F120C0679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53F01-1E49-41AA-A7F7-6F5936EE02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4A20F-4C44-4AD1-9FDC-7D34F5A0CB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9021B-7037-43CF-B1F1-8E7ED5EEB4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D852C-8249-4C03-8027-CDD122D81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ECDF-C731-42AD-A027-04F4EBBAB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8802D-6552-44D5-8F89-7CA7FE15F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520F7-3D78-4030-8AF5-ED09ED791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DB8C4-7D11-44F3-A1BA-6F465AC2E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4A1F2-5076-4D7C-A87B-8AA92F98B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854C4-5F91-405A-BC92-265457B7B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E5EF7CC-7E5A-4093-93E8-23E2B2F9389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EEAD7AE-EF33-447B-AE62-2E54923578F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8448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700360" y="60660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1193E89-C0A7-44AB-89BD-B57FCFA9F31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206AA4B-4B80-49E1-BE37-E5C3B5D2562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ckward less biased by strong correlations between predictors than forwar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utmacher and Kowalski, 2015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21-09-29T12:11:19Z</dcterms:modified>
  <cp:revision>319</cp:revision>
  <dc:subject/>
  <dc:title>REGRESSION ANALYSIS</dc:title>
</cp:coreProperties>
</file>